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2D2A-2FBB-4E9F-B6ED-E5C902375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4B6D-39E0-417E-AC51-4AE228E2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AF47-9CA5-43AD-9D88-C52BB28EA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39B9-7B17-49CC-ABC7-CF578AE61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4C24-FAAE-4C77-9831-D133B460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0EBC-B4B1-42D8-B47D-10F0240F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20AB-3A35-428E-A058-C35F2D08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63BC-5874-463C-92A1-0FE70AE0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07BA-B374-4BC5-9AFE-AD2C43F4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44A3-EB74-4158-9656-3C9C6333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E17B-7B7B-4FC1-B264-69B816AD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E473-684A-4D34-A232-5DB7B577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E51D-0687-4253-83C1-6C72FA83163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5856-1B10-409B-91D3-58CD73AD2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ĐẠO HÀM HÀM SỐ MỘT BIẾ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6068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f(x) xác định trong (a,b) và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. Nếu tồn tạ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2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759120" y="2279520"/>
                <a:ext cx="25732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76320" y="3204000"/>
            <a:ext cx="9067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ì giới hạn đó được gọi là đạo hàm của hàm số f(x)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Ký hiệu f’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y’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4164840"/>
            <a:ext cx="899136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x –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a có x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v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) –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ì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7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07960" y="5240160"/>
                <a:ext cx="19004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2742840" y="5412600"/>
            <a:ext cx="33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ý hiệu dy/dx, df/d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754A-1CB3-4A8F-8CFE-2BF700314ADD}" type="slidenum">
              <a:t>1</a:t>
            </a:fld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21932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CÁC ĐỊNH LÝ VỀ ĐẠO HÀ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1828440"/>
            <a:ext cx="906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Rol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 là hàm số liên tục trên [a,b], khả vi trong (a,b) và f(a) = f(b) thì tồn tại 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sao cho f’(c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320" y="320004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Lagrang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 là hàm số liên tục trên [a,b], khả vi trong (a,b) thì tồn tại 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sao c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76320" y="379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022560" y="4203720"/>
                <a:ext cx="25527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76320" y="502884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hận xé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ịnh lý Rolle là một trường hợp đặc biệt của định lý Lagrange trong trường hợp f(b) = f(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881C-EDA8-4279-BC2D-D13350A0A6D7}" type="slidenum">
              <a:t>10</a:t>
            </a:fld>
          </a:p>
        </p:txBody>
      </p:sp>
    </p:spTree>
  </p:cSld>
  <p:transition>
    <p:cover dir="l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320" y="118728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Cauch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 , g cùng liên tục trên [a,b], khả vi trong khoảng (a,b) và g’(x) ≠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thì tồn tại 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sao c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76320" y="34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041640" y="2666880"/>
                <a:ext cx="2711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76320" y="370152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hận xé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ịnh lý Lagrange là một trường hợp đặc biệt của định lý Cauchy trong trường hợp g(x) =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6419-7DF9-4CFE-9A08-D9A1BBF584E6}" type="slidenum">
              <a:t>11</a:t>
            </a:fld>
          </a:p>
        </p:txBody>
      </p:sp>
    </p:spTree>
  </p:cSld>
  <p:transition>
    <p:cover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320" y="1083600"/>
            <a:ext cx="88390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Taylo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hàm số f khả vi đến cấp (n+1) trong lân cận D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ì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,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≠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hì 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ồn tại c nằm giữa x và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o ch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76320" y="34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028880" y="2540160"/>
                <a:ext cx="7441920" cy="19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'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\( x rSub { size 8{0} }  \) }  over  {2!} }  \( x - x rSub { size 8{0} }  \)  rSup { size 8{2} } +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}  {} # 
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+ {  {f rSup { size 8{ \( n \) } }  \( x rSub { size 8{0} }  \) }  over  {n!} }  \( x - x rSub { size 8{0} }  \)  rSup { size 8{n} } + {  {f rSup { size 8{ \( n+1 \) } }  \( c \) }  over  { \( n+1 \) !} }  \( x - x rSub { size 8{0} }  \)  rSup { size 8{n+1} }  {} 
} } {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085760" y="5029200"/>
                <a:ext cx="416556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76320" y="451008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ố hạng cuối cùng được gọi là phần dư Lagr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7E90-2C67-4F84-A975-A3E7E63E4EE5}" type="slidenum">
              <a:t>12</a:t>
            </a:fld>
          </a:p>
        </p:txBody>
      </p:sp>
    </p:spTree>
  </p:cSld>
  <p:transition>
    <p:blinds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115668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a thức Tayl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76320" y="34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69800" y="1701720"/>
                <a:ext cx="40896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76320" y="2909880"/>
            <a:ext cx="9067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 thì công thức Taylor trở thành công thức Maclau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1520" y="3860640"/>
                <a:ext cx="896616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 \( 0 \) }  over  {2!} } x rSup { size 8{2} } +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+ {  {f rSup { size 8{ \( n \) } }  \( 0 \) }  over  {n!} } x rSup { size 8{n} } + {  {f rSup { size 8{ \( n+1 \) } }  \( c \) }  over  { \( n+1 \) !} } x rSup { size 8{n+1} } } {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5ACC-2B43-4099-8597-AF9EFC0DD016}" type="slidenum">
              <a:t>13</a:t>
            </a:fld>
          </a:p>
        </p:txBody>
      </p:sp>
    </p:spTree>
  </p:cSld>
  <p:transition>
    <p:blinds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00" y="1142280"/>
            <a:ext cx="90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Hospital khử dựng vô định khi tìm giới h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8920" y="1720440"/>
            <a:ext cx="905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 sử f, g khả vi trong (a,b), g’(x) ≠ 0 với mọi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54120" y="2709720"/>
                <a:ext cx="34862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943520" y="2432160"/>
                <a:ext cx="37688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71640" y="3442680"/>
            <a:ext cx="70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hận xé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i tắc L’Hospital vẫn đúng nế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03360" y="4114800"/>
                <a:ext cx="36003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940280" y="4081320"/>
                <a:ext cx="35481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04800" y="4919760"/>
                <a:ext cx="36622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77040" y="5728680"/>
            <a:ext cx="729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 tắc L’Hospital có thể áp dụng nhiều lầ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DB9C-3D10-419A-88FC-97FA32CC9AD2}" type="slidenum">
              <a:t>14</a:t>
            </a:fld>
          </a:p>
        </p:txBody>
      </p:sp>
    </p:spTree>
  </p:cSld>
  <p:transition>
    <p:zoom dir="in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8480" y="1675800"/>
            <a:ext cx="63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ác giới hạn sau (dạng 0/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68280" y="2197080"/>
                <a:ext cx="23954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3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946760" y="2246400"/>
                <a:ext cx="194292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50720" y="3535200"/>
                <a:ext cx="194328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737240" y="3154320"/>
                <a:ext cx="2319120" cy="16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tgx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66600" y="472356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giới hạn sau (dạ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60280" y="5402160"/>
                <a:ext cx="1816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t</m:t>
                        </m:r>
                        <m:r>
                          <m:rPr>
                            <m:lit/>
                            <m:nor/>
                          </m:rPr>
                          <m:t xml:space="preserve">g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673360" y="5349960"/>
                <a:ext cx="14428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984920" y="5230800"/>
                <a:ext cx="133956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57600" y="1142280"/>
            <a:ext cx="28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Dạng 0/0,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2096-2588-4D03-9464-F7AD32BE5F74}" type="slidenum">
              <a:t>15</a:t>
            </a:fld>
          </a:p>
        </p:txBody>
      </p:sp>
    </p:spTree>
  </p:cSld>
  <p:transition>
    <p:zoom dir="ou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114264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Dạng 0.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uyển chúng về dạng  0/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63360" y="2082960"/>
                <a:ext cx="17956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476440" y="2082960"/>
                <a:ext cx="314964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2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110280" y="1898640"/>
                <a:ext cx="28494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lim>
                    </m:limLow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86840" y="3045240"/>
            <a:ext cx="53254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Dạng vô định: 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1</a:t>
            </a:r>
            <a:r>
              <a:rPr b="1" lang="en-US" sz="2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 xét [f(x)]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g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g(x).ln f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(x) &gt;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040" y="443304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63480" y="4857840"/>
                <a:ext cx="1413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sSup>
                      <m:e>
                        <m:r>
                          <m:t xml:space="preserve">x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344760" y="4654440"/>
                <a:ext cx="13161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lim>
                    </m:limLow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000840" y="4648320"/>
                <a:ext cx="217152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lim>
                    </m:limLow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rPr>
                        <m:lit/>
                        <m:nor/>
                      </m:rPr>
                      <m:t xml:space="preserve">g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CE3F-E9D1-4FDB-B3E5-7C204CD2A5B5}" type="slidenum">
              <a:t>16</a:t>
            </a:fld>
          </a:p>
        </p:txBody>
      </p:sp>
    </p:spTree>
  </p:cSld>
  <p:transition>
    <p:checker dir="horz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61280" y="543816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320" y="1141920"/>
            <a:ext cx="9067680" cy="20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ỰC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àm số f được gọi là đạt cực đại (cực tiểu)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tồn tại một lân cận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o cho f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(f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320" y="3269520"/>
            <a:ext cx="906768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iều biến thiên của hàm s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f khả vi trong (a,b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ếu f’(x) &gt; 0 với mọi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thì f tă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ếu f’(x) &lt; 0 với mọi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thì f giả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4C4C-D076-4B4B-A525-B794AB703A00}" type="slidenum">
              <a:t>17</a:t>
            </a:fld>
          </a:p>
        </p:txBody>
      </p:sp>
    </p:spTree>
  </p:cSld>
  <p:transition>
    <p:checker dir="ver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61280" y="543816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1081440"/>
            <a:ext cx="8839080" cy="16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cần của cực tr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Ferma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hàm số đạt cực trị tại điểm x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à có đạo hàm tại điểm đó thì f’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320" y="2891520"/>
            <a:ext cx="883908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àm số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’(0) = 0 nhưng tại x = 0 hàm số không đạt cực tr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số y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ạt cực tiểu tại x = 0 nhưng f’(0) không tồn tạ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564A-B048-440C-B63D-1FCD44B506A6}" type="slidenum">
              <a:t>18</a:t>
            </a:fld>
          </a:p>
        </p:txBody>
      </p:sp>
    </p:spTree>
  </p:cSld>
  <p:transition>
    <p:comb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37600" y="508104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320" y="1212480"/>
            <a:ext cx="8839080" cy="29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ác điểm thoả một trong các điều kiện sau thì được gọi chung là điểm tới hạn của 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Không tồn tại f’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f’(x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ác điểm thoả điều kiện sau f’(x) = 0 được gọi là điểm dừng của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4E8E-EC28-47B8-B832-971B7A6C7DF5}" type="slidenum">
              <a:t>19</a:t>
            </a:fld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37600" y="508104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840" y="1340640"/>
            <a:ext cx="350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Đạo hàm bên phả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480" y="2407680"/>
            <a:ext cx="332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Đạo hàm bên trá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830760" y="1136520"/>
                <a:ext cx="20620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830760" y="2252520"/>
                <a:ext cx="20620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76320" y="3226680"/>
            <a:ext cx="8839080" cy="23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số f(x) có đạo hàm trên khoảng (a,b) nếu nó có đạo hàm tại mọi điểm trong khoảng đó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 có đạo hàm trên đoạn [a,b] nếu nó có đạo hàm tại mọi điểm trong khoảng (a,b), có đạo hàm phải tại a và đạo hàm trái tại 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6760" y="5804640"/>
            <a:ext cx="652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đạo hàm của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y = s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ED04-7AD0-4CAD-890D-326CC13E925F}" type="slidenum">
              <a:t>2</a:t>
            </a:fld>
          </a:p>
        </p:txBody>
      </p:sp>
    </p:spTree>
  </p:cSld>
  <p:transition>
    <p:blinds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320" y="927360"/>
            <a:ext cx="9067680" cy="43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đủ của cực tr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 sử f khả vi trong (a,b) chứa điểm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Nếu x vượt qu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à f’(x) đổi dấu từ dương sang âm thì f(x) đạt cực đại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Nếu x vượt qu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à f’(x) đổi dấu từ âm sang dương thì f(x) đạt cực tiểu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Nếu x vượt qu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à f’(x) không đổi dấu thì f(x) không đạt cực trị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D2F3-B3F2-47BD-9494-F4FFD927E495}" type="slidenum">
              <a:t>20</a:t>
            </a:fld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320" y="1094040"/>
            <a:ext cx="8839080" cy="21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 sử f(x) có đạo hàm cấp 2 liên tục ở lân cận điểm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à f’(x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Nếu f”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gt; 0 thì f(x) đạt cực tiể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Nếu f”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lt; 0 thì f(x) đạt cực đạ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3346560"/>
            <a:ext cx="883908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iá trị lớn nhất bé nhất của hàm số trên một đoạ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ính giá của f tại các điểm tới hạn và tại điểm hai đầu mú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Giá trị lớn nhất (nhỏ nhất) trong các giá trị được tính trên là giá trị lớn nhất (nhỏ nhất cần tì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F59E-A9C4-40EE-8FCF-CE745074E483}" type="slidenum">
              <a:t>21</a:t>
            </a:fld>
          </a:p>
        </p:txBody>
      </p:sp>
    </p:spTree>
  </p:cSld>
  <p:transition>
    <p:cover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320" y="1154520"/>
            <a:ext cx="876276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ìm giá trị lớn nhất và bé nhất của hàm s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1 trên đoạn [-1/2, 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8335-3D22-4FEA-A9EB-CDAE979F4B0B}" type="slidenum">
              <a:t>22</a:t>
            </a:fld>
          </a:p>
        </p:txBody>
      </p:sp>
    </p:spTree>
  </p:cSld>
  <p:transition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14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iến kinh t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765520" y="1262160"/>
          <a:ext cx="5540400" cy="5138640"/>
        </p:xfrm>
        <a:graphic>
          <a:graphicData uri="http://schemas.openxmlformats.org/drawingml/2006/table">
            <a:tbl>
              <a:tblPr/>
              <a:tblGrid>
                <a:gridCol w="1066680"/>
                <a:gridCol w="2441520"/>
                <a:gridCol w="2032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ản lượ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Suppl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ượng c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Deman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ượng cầ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á c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 ph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ổng chi ph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en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anh th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ven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ổng doanh th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ợi nhuậ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ư bả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o độ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ịnh ph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ến ph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A70A-5506-4294-A79D-F1DEDC7B34BC}" type="slidenum">
              <a:t>23</a:t>
            </a:fld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178280"/>
            <a:ext cx="914400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àm số kinh t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sản xuấ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 = f(K,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doanh th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R = P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hi ph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C = f(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lợi nhuậ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R - 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081760" y="3967200"/>
          <a:ext cx="3985920" cy="2281320"/>
        </p:xfrm>
        <a:graphic>
          <a:graphicData uri="http://schemas.openxmlformats.org/drawingml/2006/table">
            <a:tbl>
              <a:tblPr/>
              <a:tblGrid>
                <a:gridCol w="2263680"/>
                <a:gridCol w="172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ê mặt bằng, điện nướ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00đ/ngà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đ/t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a v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đ/t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ịt bò, he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0đ/t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ân viê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đ/t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0" y="4021200"/>
            <a:ext cx="4876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quán bún bình dân, hãy tính mỗi ngày bán bao nhiêu tô thì có lời với giá bán 5.000đ/tô và chi phí như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08C8-0F05-4FF8-ADBD-067BE6C138F5}" type="slidenum">
              <a:t>24</a:t>
            </a:fld>
          </a:p>
        </p:txBody>
      </p:sp>
    </p:spTree>
  </p:cSld>
  <p:transition>
    <p:blinds dir="ver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14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Ý nghĩa đạo hàm trong kinh t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6761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ản lượng biên MQ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Marginal quantity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o lường sự thay đổi của sản lượng khi tăng lao động hay vốn lên một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047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ãy tìm sản lượng biên của một doanh nghiệp và cho nhận xét khi L=100 cho bởi hàm sản xuất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917880" y="4114800"/>
                <a:ext cx="1308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L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DAA8-BAA4-4FC6-A872-6733C40B8B50}" type="slidenum">
              <a:t>25</a:t>
            </a:fld>
          </a:p>
        </p:txBody>
      </p:sp>
    </p:spTree>
  </p:cSld>
  <p:transition>
    <p:zoom dir="in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143000"/>
            <a:ext cx="914400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i phí biên MC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Marginal Cost)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hi phí: TC = TC(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C là đại lượng đo lường sự thay đổi của chi phí khi sản lượng tăng lên một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276720"/>
            <a:ext cx="91440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MC và MC là bao nhiêu khi Q = 50 và cho nhận xé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 = 0,0001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0,02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5Q +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55A5-597B-486F-97E2-3F42313E82B5}" type="slidenum">
              <a:t>26</a:t>
            </a:fld>
          </a:p>
        </p:txBody>
      </p:sp>
    </p:spTree>
  </p:cSld>
  <p:transition>
    <p:zoom dir="ou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143000"/>
            <a:ext cx="9144000" cy="37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anh thu biên MR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(Marginal Revenue)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doanh thu: TR = P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ếu: Q do thị trường quyết định, giá do doanh nghiệp quyết định thì MR là đại lượng đo lường sự thay đổi của doanh thu khi sản lượng tăng thêm 1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ếu: Q do doanh nghiệp quyết định, giá do thị trường quyết định thì MR là đại lượng đo lường sự thay đổi của doanh thu khi giá tăng thêm 1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4952880"/>
            <a:ext cx="91440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sản phẩm trên thị trường có hàm cầu là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= 1.000 – 14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ìm MR khi p = 40 và p =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7A2C-5F83-4057-A213-5027E24CD850}" type="slidenum">
              <a:t>27</a:t>
            </a:fld>
          </a:p>
        </p:txBody>
      </p:sp>
    </p:spTree>
  </p:cSld>
  <p:transition>
    <p:checker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143000"/>
            <a:ext cx="914400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ợi nhuận biên MP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(Marginal Profit)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lợi nhuận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R – TC = PQ – (FC + VC(Q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ợi nhuận biên là đại lượng đo lường sự thay đổi của lợi nhuận khi giá hay sản lượng tăng thêm 1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AC56-53B9-40C4-B842-6310A22F27B9}" type="slidenum">
              <a:t>28</a:t>
            </a:fld>
          </a:p>
        </p:txBody>
      </p:sp>
    </p:spTree>
  </p:cSld>
  <p:transition>
    <p:checke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143000"/>
            <a:ext cx="914400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ối đa hóa lợi nhuậ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hi phí: TC = TC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ầu: x =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f(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ả sử thị trường độc quyề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lợi nhuận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R – TC = Px – TC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955880" y="3886200"/>
                <a:ext cx="459720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dπ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4F4C-6AAE-44E8-B113-C18FD3EDD5E3}" type="slidenum">
              <a:t>29</a:t>
            </a:fld>
          </a:p>
        </p:txBody>
      </p:sp>
    </p:spTree>
  </p:cSld>
  <p:transition>
    <p:comb dir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37600" y="508104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1150200"/>
            <a:ext cx="906768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tổng thương tích của hai hàm s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các hàm số u, v có đạo hàm tại x thì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+ v cũng có đạo hàm tại x và (u + v)’ = u’ + v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v cũng có đạo hàm tại x và (u.v)’ = u’v + v’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040" y="3442680"/>
            <a:ext cx="62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/v cũng có đạo hàm tại x\V(x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v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521400" y="3193920"/>
                <a:ext cx="23670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'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'</m:t>
                        </m:r>
                        <m:r>
                          <m:t xml:space="preserve">u</m:t>
                        </m:r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76320" y="4267080"/>
            <a:ext cx="899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số hợ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hàm số u = u(x) có đạo hàm theo x, hàm y = f(u) có đạo hàm tương ứng u = u(x) thì hàm số hợp f(u) có đạo hàm theo x và y’(x) = y’(u).u’(x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29C8-B6AD-408B-BC96-26F514325C64}" type="slidenum">
              <a:t>3</a:t>
            </a:fld>
          </a:p>
        </p:txBody>
      </p:sp>
    </p:spTree>
  </p:cSld>
  <p:transition>
    <p:zoom dir="in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143000"/>
            <a:ext cx="914400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công ty độc quyền, phòng kinh doanh cung cấp thông t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ịnh phí: FC = 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ến phí: VC = 1/8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ầu: x = -7/8 P +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ãy tìm sản lượng để doanh nghiệp đạt lợi nhuận tốt đ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9993-68CA-462D-8DDB-C8146F2599CB}" type="slidenum">
              <a:t>30</a:t>
            </a:fld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61280" y="536328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1140480"/>
            <a:ext cx="906768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số ngượ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hàm số y = f(x) có đạo hàm tại x, f’(x) ≠ 0 và có hàm số ngược x =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y) thì hàm số x =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y) có đạo hàm tại y = f(x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76320" y="347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009880" y="3035160"/>
                <a:ext cx="40291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76680" y="4128480"/>
            <a:ext cx="58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đạo hàm của y = arcs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2551-C290-4A09-8102-EBC59E93C1E0}" type="slidenum">
              <a:t>4</a:t>
            </a:fld>
          </a:p>
        </p:txBody>
      </p:sp>
    </p:spTree>
  </p:cSld>
  <p:transition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37600" y="5195160"/>
            <a:ext cx="109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3720" y="1065600"/>
            <a:ext cx="55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Đạo hàm các hàm số sơ cấp cơ bả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1360" y="1454760"/>
            <a:ext cx="198252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)’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’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’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’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483080" y="1301760"/>
                <a:ext cx="23115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584600" y="2127240"/>
                <a:ext cx="138456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153000" y="3635640"/>
            <a:ext cx="2388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inx)’ = cos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sx)’ = -s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77840" y="4741920"/>
                <a:ext cx="21607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90440" y="5657760"/>
                <a:ext cx="27226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rPr>
                        <m:lit/>
                        <m:nor/>
                      </m:rPr>
                      <m:t xml:space="preserve">g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599000" y="3030480"/>
                <a:ext cx="29512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527720" y="4021200"/>
                <a:ext cx="331452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572000" y="4979880"/>
                <a:ext cx="25066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tg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40320" y="5784840"/>
                <a:ext cx="323856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rPr>
                        <m:lit/>
                        <m:nor/>
                      </m:rPr>
                      <m:t xml:space="preserve">g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2F9B-EFB1-491F-BA29-FF7ADFC0C75E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1140480"/>
            <a:ext cx="899136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ấp cao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hàm số y = f(x) có đạo hàm thì y’ = f’(x) gọi là đạo hàm cấp 1. Đạo hàm, nếu có, của đạo hàm cấp 1 gọi là đạo hàm cấp 2. Ký hiệu: y’’(x), f’’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5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327480" y="3124080"/>
                <a:ext cx="1523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,  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76320" y="431136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ơng tự, đạo hàm của đạo hàm cấp (n-1) là đạo hàm cấp n. Ký hiệu: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,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429000" y="5264280"/>
                <a:ext cx="14986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,  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6AC4-85E4-4D06-B62C-C4FBA9F2F700}" type="slidenum">
              <a:t>6</a:t>
            </a:fld>
          </a:p>
        </p:txBody>
      </p:sp>
    </p:spTree>
  </p:cSld>
  <p:transition>
    <p:checke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1747800"/>
            <a:ext cx="8816760" cy="20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ông thức Leibni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ả sử hàm số u, v có đạo hàm liên tiếp đến n. Khi đó ta c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 + v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49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117440" y="3903840"/>
                <a:ext cx="358164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uv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856760" y="4053600"/>
            <a:ext cx="39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đó 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u, 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7360" y="1156680"/>
            <a:ext cx="763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, x &gt; 0), y = k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ìm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20C1-587A-4BA4-9914-2F9BF5938266}" type="slidenum">
              <a:t>7</a:t>
            </a:fld>
          </a:p>
        </p:txBody>
      </p:sp>
    </p:spTree>
  </p:cSld>
  <p:transition>
    <p:comb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VI PHÂ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1750680"/>
            <a:ext cx="8762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y = f(x) khả vi, ta ký hiệu dy = y’dx (df = f’dx) được gọi là vi phân cấp 1 của hàm số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0" y="3065040"/>
            <a:ext cx="546732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i phân của tổng, tích, thươ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(u + v) = du + d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(u.v) = vdu + ud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090440" y="4732200"/>
                <a:ext cx="26640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du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udv</m:t>
                        </m:r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F64E-D44A-492B-ACF0-3D7DB15F5B8B}" type="slidenum">
              <a:t>8</a:t>
            </a:fld>
          </a:p>
        </p:txBody>
      </p:sp>
    </p:spTree>
  </p:cSld>
  <p:transition>
    <p:comb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37600" y="5195160"/>
            <a:ext cx="109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1142640"/>
            <a:ext cx="8762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y = f(x) và f(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-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hả vi, ta ký hiệu 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x) được gọi là vi phân cấp n của hàm số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83F2-B45B-4FCB-993D-A89CA186F204}" type="slidenum">
              <a:t>9</a:t>
            </a:fld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3:32:52Z</dcterms:created>
  <dc:creator>Acer</dc:creator>
  <dc:description/>
  <dc:language>en-US</dc:language>
  <cp:lastModifiedBy>Acer</cp:lastModifiedBy>
  <dcterms:modified xsi:type="dcterms:W3CDTF">2009-10-11T04:34:30Z</dcterms:modified>
  <cp:revision>712</cp:revision>
  <dc:subject/>
  <dc:title>Nguyên lý thống kê</dc:title>
</cp:coreProperties>
</file>